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terreg IPA CBC Programme "Greece - Albania 2014 - 2020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58EF-70F2-41CB-97CE-E6346ED6FFE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Θέση κεφαλίδας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terreg IPA CBC Programme "Greece - Albania 2014 - 2020"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Θέση κεφαλίδας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terreg IPA CBC Programme "Greece - Albania 2014 - 2020"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Θέση κεφαλίδας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terreg IPA CBC Programme "Greece - Albania 2014 - 2020"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Θέση κεφαλίδας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terreg IPA CBC Programme "Greece - Albania 2014 - 2020"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685-26EE-4C5B-9040-142DA2B7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61D-1E2F-4158-B1FB-1BACAC5B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09CD44-CCD1-4960-AFF5-BBC9E310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89FC16-9A20-46B4-A7E7-30AB8E1A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D3CAA-A3C1-4D18-A4D6-CA60AEE3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2640E-8A27-4403-A4E6-9BC7838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A38C16-4CA4-4B00-B393-136CA95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B86B2A-9EE4-47ED-912D-E04580F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5DA90D-BAE5-4CF8-8898-8A0F564F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47A44D-4956-47E2-85D6-D2380107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06791F-7FC8-442E-8C10-4727A4AD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479AF-39E5-4F9A-A50A-012FCAA7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97A-B3E3-47F5-B2DF-9DBC1E39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CEA22-936A-4569-A01D-39EE16DC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8C60E-C3D8-4910-9A9F-4E5A9C41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AE210-EFAD-431B-845F-F8089477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97DF8-1ACC-41C9-A6D8-5D0C5751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C5367-38AE-427B-B12A-9F2CD3AA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0160D-4905-4D32-BA5C-44C3DECA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72B54-9785-4539-8D64-1C9A857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E817A-A22C-4979-809D-5788388E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67D9F-2FD0-4D1F-8BFF-4ADF3B0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63BB3-B1E3-4EB7-9029-BBB1E00D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A2B-7807-4446-B4EE-7B0AFF78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D9F15-1030-43F6-AF2B-CB1FA5B2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F7732-9699-45B3-8DC5-EF53A0B2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40923-410F-4B93-AC44-3066BC92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5291C-EE78-4F28-92A8-18C1FE60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2BF7A-A7C9-4BE7-8BC7-DFF2587C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C0F82-8D2A-4F11-B130-0A14DECF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0890A-D758-4BA1-994B-FD669643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9E181-8D07-4E41-9641-5E8DC8DF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975F7-BE2B-432A-BE43-B8901D2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9C2F4-8E9F-48DD-AFB8-90410AD5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07D52-29B2-462E-8EA4-498146D1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6CEAF-B540-4A99-9B41-669C64D6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7AD78-5A36-4829-93AC-5B52B5C2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E95-B36B-4DC5-A7BF-0F44D7BC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D59-E14E-41CB-B229-9AB0AD18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EC026-8F3E-444C-83DC-0A052058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6D5BE6-888C-4FCD-962E-F3DD053B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BEC596-688E-4D1C-AF8F-549C3A64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814-EA4C-41CB-B271-AD14C1DC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6B0013-7297-4458-BD0F-99138BD2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378848-4987-4C2A-90E3-FB9BDE2A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BFBC42-B49A-4288-B103-A7D55FC9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B6D4E8-521F-43FE-B2B8-86D966FF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ECF03-BE29-4253-A7E8-97F6B151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3C0AB-1363-411D-A6F3-DEE5AC6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004021-5BFE-41AE-B6F9-5A415668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941959-F6F0-4532-A013-600375BF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41113-8C3F-449F-9DD1-8DE79BE8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0B52B-78C6-420A-AF69-D8697675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1A1-22EC-46AB-B11B-30A682AD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2E587D-63A6-42DA-A386-A45CA512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6A54E-C58A-4B64-893C-C33CC6D4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171825-13AC-4AF5-BC50-429F5BC4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369D66-172C-40FD-92F7-2E7842A2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AB482-6261-4FFA-ABCC-05AFE4D0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05FEE-163F-46F2-BFBB-4F415DB9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FD887-4EAC-4936-B53B-A4C5E1F7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DD4E97-B4A1-4735-ACD3-EFC864C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8C6DA-D79D-4097-AEC9-A40AD4B2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AD632-32B9-4227-8FBD-19632420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467-05CA-4EBB-B44A-C6B5761A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EE821E-86A7-4BBA-AE8A-00E33E4B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285196-DF1C-4C0D-924E-D0F22D31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51C85-E164-4407-A89E-0C1CA1FD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655DF0-5867-4281-807F-10312183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C6D66D-5F9F-4197-834C-E55CD92D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1B249-3CC3-4914-8294-B787DFDF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37719A-3179-46F0-876A-51D9044B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49BC33-AA3A-4E8F-8629-8E29616B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A7DC9A-7BFE-456E-968E-BAB3AF1B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EF601F-3678-4ADB-A97E-89EE94C4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7F7-FB62-4652-9B3B-1F6602CC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BAD1EC-F066-4697-977E-F92D0212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F9DE7D-7B1A-4FE6-A694-FC429665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55A087-5988-4B89-9CB2-14F5AD40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DC8DF3-FEC4-48AD-8A5C-32F54213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DAAF7C-7B5B-4978-97A9-F30E124C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1CAEC1-8378-485D-849F-BCBB2230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7AE620-ABF8-4F1E-BBAB-91156DE9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465DF3-1388-4DD0-8AE8-F945464C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BAE08-EF86-4E2B-8E37-DC15F1BD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E32324-F09D-4AD3-8CC6-E3329ECC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B87-9AA2-435E-8CBC-4C0051D5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138D79-86D0-432C-A5A1-B441E6BD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10DE8F-569F-43A7-9C29-14B118B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AAAA14-C0DF-4115-BEEE-C84F8D01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0CEB40-03D6-4F5A-ABC2-85416D24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AA2F74-FDD7-4ACA-B1C7-8A63300C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F91113-8603-4B26-967B-E01704C6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383242-6E1F-436B-93CF-99471C27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B51178-D089-4A72-A595-73794D07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DE1041-E5EC-45C3-9421-69B9EAB9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D3C366-D061-48E7-A886-4495FBFA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14F-DBBC-4395-A7B5-7282D911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5F1D96-DF3A-4ED2-A67F-B50440F4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CE6E50-D4C6-417C-AE0B-B653A290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12A40F-EBF2-487F-856A-C83978A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62C5DE-ECF6-43DA-BAF7-ACE9698F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502142-5F4C-4EE0-9DAA-549DE9A9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2168C2-53F5-44BB-9FBA-24F0EFB3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2BA7C7-BFEA-4E5E-993A-9D73C767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1EC9A-14F1-40E2-A275-62F4349E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7E11F4-C575-448C-BDA5-6DB0C989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E4689B-63CB-42C2-B0DB-FCD71C9B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1e4e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4233-0842-4E45-9A00-9FBFF8C57222}" type="slidenum">
              <a:rPr b="0" lang="el-GR" sz="900" spc="-1" strike="noStrike">
                <a:solidFill>
                  <a:srgbClr val="1e4e7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447840" y="600120"/>
            <a:ext cx="8238960" cy="6681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1e4e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2F1E-4797-46FF-A5C0-09B7A1E4A779}" type="slidenum">
              <a:rPr b="0" lang="el-GR" sz="900" spc="-1" strike="noStrike">
                <a:solidFill>
                  <a:srgbClr val="1e4e7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6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7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307c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7B0D-E4E1-4C2C-B745-3D91466AA170}" type="slidenum">
              <a:rPr b="0" lang="el-GR" sz="900" spc="-1" strike="noStrike">
                <a:solidFill>
                  <a:srgbClr val="307cc1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7" name="Ομάδα 11"/>
          <p:cNvGrpSpPr/>
          <p:nvPr/>
        </p:nvGrpSpPr>
        <p:grpSpPr>
          <a:xfrm>
            <a:off x="468360" y="539640"/>
            <a:ext cx="8242200" cy="5789880"/>
            <a:chOff x="468360" y="539640"/>
            <a:chExt cx="8242200" cy="5789880"/>
          </a:xfrm>
        </p:grpSpPr>
        <p:pic>
          <p:nvPicPr>
            <p:cNvPr id="48" name="Picture 26" descr="ÎÏÎ¿ÏÎ­Î»ÎµÏÎ¼Î± ÎµÎ¹ÎºÏÎ½Î±Ï Î³Î¹Î± air pollution greece"/>
            <p:cNvPicPr/>
            <p:nvPr/>
          </p:nvPicPr>
          <p:blipFill>
            <a:blip r:embed="rId2"/>
            <a:srcRect l="0" t="28680" r="0" b="13961"/>
            <a:stretch/>
          </p:blipFill>
          <p:spPr>
            <a:xfrm>
              <a:off x="468360" y="539640"/>
              <a:ext cx="8242200" cy="27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6"/>
            <p:cNvSpPr/>
            <p:nvPr/>
          </p:nvSpPr>
          <p:spPr>
            <a:xfrm>
              <a:off x="468360" y="3024000"/>
              <a:ext cx="8242200" cy="3305520"/>
            </a:xfrm>
            <a:prstGeom prst="rec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50" name="Ομάδα 14"/>
          <p:cNvGrpSpPr/>
          <p:nvPr/>
        </p:nvGrpSpPr>
        <p:grpSpPr>
          <a:xfrm>
            <a:off x="1619280" y="6356520"/>
            <a:ext cx="6121440" cy="654120"/>
            <a:chOff x="1619280" y="6356520"/>
            <a:chExt cx="6121440" cy="654120"/>
          </a:xfrm>
        </p:grpSpPr>
        <p:sp>
          <p:nvSpPr>
            <p:cNvPr id="51" name="TextBox 5"/>
            <p:cNvSpPr/>
            <p:nvPr/>
          </p:nvSpPr>
          <p:spPr>
            <a:xfrm>
              <a:off x="1619280" y="6612120"/>
              <a:ext cx="6121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he project is co-funded by the European Union and by National Funds of the participating countries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pic>
          <p:nvPicPr>
            <p:cNvPr id="52" name="Picture 13" descr=""/>
            <p:cNvPicPr/>
            <p:nvPr/>
          </p:nvPicPr>
          <p:blipFill>
            <a:blip r:embed="rId3"/>
            <a:stretch/>
          </p:blipFill>
          <p:spPr>
            <a:xfrm>
              <a:off x="4079880" y="6356520"/>
              <a:ext cx="1200240" cy="24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581040" y="3181320"/>
            <a:ext cx="2478240" cy="560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>
            <a:off x="7524720" y="3300480"/>
            <a:ext cx="915840" cy="882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68360" y="600120"/>
            <a:ext cx="8237520" cy="6681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307c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9AEB-4514-4A0C-8AB1-F5FB5A05C45C}" type="slidenum">
              <a:rPr b="0" lang="el-GR" sz="900" spc="-1" strike="noStrike">
                <a:solidFill>
                  <a:srgbClr val="307cc1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47840" y="600120"/>
            <a:ext cx="8238960" cy="6681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8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9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1e4e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B129-2E8F-4CCC-AE84-AE42E394DCF5}" type="slidenum">
              <a:rPr b="0" lang="el-GR" sz="900" spc="-1" strike="noStrike">
                <a:solidFill>
                  <a:srgbClr val="1e4e7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447840" y="600120"/>
            <a:ext cx="8238960" cy="74124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1e4e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638D-B6B6-428B-A0F5-C5BD319F900B}" type="slidenum">
              <a:rPr b="0" lang="el-GR" sz="900" spc="-1" strike="noStrike">
                <a:solidFill>
                  <a:srgbClr val="1e4e7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47840" y="600120"/>
            <a:ext cx="8238960" cy="6681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1e4e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94F9-8EF7-4EB5-A6E0-DBB2B355684B}" type="slidenum">
              <a:rPr b="0" lang="el-GR" sz="900" spc="-1" strike="noStrike">
                <a:solidFill>
                  <a:srgbClr val="1e4e7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0" name="Picture 26" descr="ÎÏÎ¿ÏÎ­Î»ÎµÏÎ¼Î± ÎµÎ¹ÎºÏÎ½Î±Ï Î³Î¹Î± air pollution greece"/>
          <p:cNvPicPr/>
          <p:nvPr/>
        </p:nvPicPr>
        <p:blipFill>
          <a:blip r:embed="rId2"/>
          <a:srcRect l="0" t="33364" r="0" b="32734"/>
          <a:stretch/>
        </p:blipFill>
        <p:spPr>
          <a:xfrm>
            <a:off x="-15840" y="3043080"/>
            <a:ext cx="9175680" cy="18003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307c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2693-FE59-40C7-94A9-87BF7EED6109}" type="slidenum">
              <a:rPr b="0" lang="el-GR" sz="900" spc="-1" strike="noStrike">
                <a:solidFill>
                  <a:srgbClr val="307cc1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1e4e79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e4e79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1e4e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7E1B-F12F-43EF-8185-2D41C20904C4}" type="slidenum">
              <a:rPr b="0" lang="el-GR" sz="900" spc="-1" strike="noStrike">
                <a:solidFill>
                  <a:srgbClr val="1e4e7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trap-project.e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15128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63b5b"/>
                </a:solidFill>
                <a:latin typeface="Segoe UI Semibold"/>
                <a:ea typeface="Segoe UI Semibold"/>
              </a:rPr>
              <a:t>TRAP</a:t>
            </a:r>
            <a:endParaRPr b="0" lang="en-US" sz="3200" spc="-1" strike="noStrike">
              <a:solidFill>
                <a:srgbClr val="1e4e79"/>
              </a:solidFill>
              <a:latin typeface="Corbel"/>
            </a:endParaRPr>
          </a:p>
          <a:p>
            <a:pPr algn="ctr">
              <a:lnSpc>
                <a:spcPct val="107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3b5b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163b5b"/>
                </a:solidFill>
                <a:latin typeface="Segoe UI Semilight"/>
                <a:ea typeface="Calibri"/>
              </a:rPr>
              <a:t>TRANSBOUNDARY AIR POLLUTION HEALTH INDEX DEVELOPMENT AND IMPLEMENTATION </a:t>
            </a:r>
            <a:endParaRPr b="0" lang="en-US" sz="1400" spc="-1" strike="noStrike">
              <a:solidFill>
                <a:srgbClr val="1e4e79"/>
              </a:solidFill>
              <a:latin typeface="Corbel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2124000" y="4292640"/>
            <a:ext cx="583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Lucida Sans Unicode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 Steering Committee Meeting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Municipality of Flori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TextBox 3"/>
          <p:cNvSpPr/>
          <p:nvPr/>
        </p:nvSpPr>
        <p:spPr>
          <a:xfrm>
            <a:off x="509760" y="4584600"/>
            <a:ext cx="237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Lucida Sans Unicode"/>
              </a:rPr>
              <a:t>Marina Proikaki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Lucida Sans Unicode"/>
              </a:rPr>
              <a:t>Regional Development Consultant, LEVER S.A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TextBox 4"/>
          <p:cNvSpPr/>
          <p:nvPr/>
        </p:nvSpPr>
        <p:spPr>
          <a:xfrm>
            <a:off x="3995640" y="5950080"/>
            <a:ext cx="46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Lucida Sans Unicode"/>
              </a:rPr>
              <a:t>16/10/2019/3rd Steering Committee Meeting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5280" y="645840"/>
            <a:ext cx="7989840" cy="50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Gill Sans MT"/>
              </a:rPr>
              <a:t>GROUP OF IMPLEMENTED ACTIVITIES / TENDERS</a:t>
            </a:r>
            <a:r>
              <a:rPr b="0" lang="el-GR" sz="25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95280" y="1413000"/>
          <a:ext cx="8424720" cy="4389480"/>
        </p:xfrm>
        <a:graphic>
          <a:graphicData uri="http://schemas.openxmlformats.org/drawingml/2006/table">
            <a:tbl>
              <a:tblPr/>
              <a:tblGrid>
                <a:gridCol w="1368360"/>
                <a:gridCol w="1511280"/>
                <a:gridCol w="1081080"/>
                <a:gridCol w="1656000"/>
                <a:gridCol w="1079280"/>
                <a:gridCol w="1728720"/>
              </a:tblGrid>
              <a:tr h="1245600"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xternal Expertise an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ENDERS</a:t>
                      </a: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/ Α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UDG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.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RACTED BUDJ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ID BUDJ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ERIFIED BUDJET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</a:tr>
              <a:tr h="718920">
                <a:tc>
                  <a:txBody>
                    <a:bodyPr lIns="68400" rIns="68400" tIns="54720" bIns="54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1 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ject Management and Coord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4720" bIns="54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l.1.2.2 Project Management Gu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  <a:ea typeface="Verdana"/>
                        </a:rPr>
                        <a:t>5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  <a:ea typeface="Verdana"/>
                        </a:rPr>
                        <a:t>5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</a:rPr>
                        <a:t>500 €</a:t>
                      </a: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</a:rPr>
                        <a:t>August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</a:tr>
              <a:tr h="719280">
                <a:tc>
                  <a:txBody>
                    <a:bodyPr lIns="68400" rIns="68400" tIns="54720" bIns="54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1 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ject Management and Coord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54720" bIns="54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l.1.2.3 Steering Committee Meeting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  <a:ea typeface="Verdana"/>
                        </a:rPr>
                        <a:t>1.5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  <a:ea typeface="Verdana"/>
                        </a:rPr>
                        <a:t>1.5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</a:rPr>
                        <a:t>300 €</a:t>
                      </a: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</a:rPr>
                        <a:t>August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x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569880">
                <a:tc>
                  <a:txBody>
                    <a:bodyPr lIns="68400" rIns="6840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2 – Communication and Dissemin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l. 2.2.1 Communication Pla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  <a:ea typeface="Verdana"/>
                        </a:rPr>
                        <a:t>3.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  <a:ea typeface="Verdana"/>
                        </a:rPr>
                        <a:t>3.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  <a:ea typeface="Verdana"/>
                        </a:rPr>
                        <a:t>3.000 €</a:t>
                      </a: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  <a:ea typeface="Verdana"/>
                        </a:rPr>
                        <a:t>August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</a:tr>
              <a:tr h="568440">
                <a:tc>
                  <a:txBody>
                    <a:bodyPr lIns="68400" rIns="6840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2 – Communication and 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l.2.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ject Ident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  <a:ea typeface="Verdana"/>
                        </a:rPr>
                        <a:t>1.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  <a:ea typeface="Verdana"/>
                        </a:rPr>
                        <a:t>1.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  <a:ea typeface="Verdana"/>
                        </a:rPr>
                        <a:t>1.000 €</a:t>
                      </a: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  <a:ea typeface="Verdana"/>
                        </a:rPr>
                        <a:t>Augu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  <a:ea typeface="Verdana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567360">
                <a:tc>
                  <a:txBody>
                    <a:bodyPr lIns="68400" rIns="6840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2 – Communication and 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l.2.2.3 Promotional Mater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  <a:ea typeface="Verdana"/>
                        </a:rPr>
                        <a:t>3.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  <a:ea typeface="Verdana"/>
                        </a:rPr>
                        <a:t>1.5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  <a:ea typeface="Verdana"/>
                        </a:rPr>
                        <a:t>1.500 €</a:t>
                      </a: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  <a:ea typeface="Verdana"/>
                        </a:rPr>
                        <a:t>Aug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Gill Sans MT"/>
                          <a:ea typeface="Verdana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52560" bIns="52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</a:tr>
            </a:tbl>
          </a:graphicData>
        </a:graphic>
      </p:graphicFrame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7812000" y="5853240"/>
            <a:ext cx="9162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645840"/>
            <a:ext cx="7989840" cy="50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Gill Sans MT"/>
              </a:rPr>
              <a:t>GROUP OF ACTIVITIES / TENDERS</a:t>
            </a:r>
            <a:r>
              <a:rPr b="0" lang="el-GR" sz="25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324000" y="1413000"/>
          <a:ext cx="8496000" cy="2877840"/>
        </p:xfrm>
        <a:graphic>
          <a:graphicData uri="http://schemas.openxmlformats.org/drawingml/2006/table">
            <a:tbl>
              <a:tblPr/>
              <a:tblGrid>
                <a:gridCol w="1368360"/>
                <a:gridCol w="1511280"/>
                <a:gridCol w="1081080"/>
                <a:gridCol w="1655640"/>
                <a:gridCol w="1079640"/>
                <a:gridCol w="1800000"/>
              </a:tblGrid>
              <a:tr h="1419120">
                <a:tc>
                  <a:txBody>
                    <a:bodyPr lIns="68400" rIns="684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xternal Expertise and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ENDERS</a:t>
                      </a: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/ Α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UDG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.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RACTED BUDJ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ID BUDJ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ERIFIED BUDJET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</a:tr>
              <a:tr h="728640">
                <a:tc>
                  <a:txBody>
                    <a:bodyPr lIns="68400" rIns="684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1 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ject Management and Coord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l. 1.2.4 Progress Repor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.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.0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</a:tr>
              <a:tr h="730080">
                <a:tc>
                  <a:txBody>
                    <a:bodyPr lIns="68400" rIns="684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2 – Communication and Dissemin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l.2.2.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yman Repor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.000 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.000 €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400" rIns="684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</a:tbl>
          </a:graphicData>
        </a:graphic>
      </p:graphicFrame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7826400" y="5805360"/>
            <a:ext cx="915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1040" y="679320"/>
            <a:ext cx="798984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Gill Sans MT"/>
              </a:rPr>
              <a:t>NEXT STEPS/ TENDERS REMAINING 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95280" y="1413000"/>
          <a:ext cx="8353440" cy="4682880"/>
        </p:xfrm>
        <a:graphic>
          <a:graphicData uri="http://schemas.openxmlformats.org/drawingml/2006/table">
            <a:tbl>
              <a:tblPr/>
              <a:tblGrid>
                <a:gridCol w="2106720"/>
                <a:gridCol w="4039920"/>
                <a:gridCol w="1270080"/>
                <a:gridCol w="936720"/>
              </a:tblGrid>
              <a:tr h="911160">
                <a:tc>
                  <a:txBody>
                    <a:bodyPr lIns="68760" rIns="6876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xternal Expertise and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760" rIns="6876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ENDERS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/ Α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760" rIns="6876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760" rIns="6876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heck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</a:tr>
              <a:tr h="1153800">
                <a:tc>
                  <a:txBody>
                    <a:bodyPr lIns="68760" rIns="6876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760" rIns="68760" tIns="43920" bIns="4392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vent organis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ganisation of 1SC (WP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ganisation of Final Conference (WP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ganisation of 1 Workshop (WP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760" rIns="6876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.500,0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760" rIns="6876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y the end of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</a:tr>
              <a:tr h="2643480">
                <a:tc>
                  <a:txBody>
                    <a:bodyPr lIns="68760" rIns="6876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43920" bIns="4392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onitoring proces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cord measurements from the stations (WP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valuate periodic measurement and create periodical evaluation data reports (WP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reation of an online Tool for Air Quality and Health Indicators (WP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ribute to partnership joint study for comparative analysis (WP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mplementation of health sensitization campaigns to schools and health operators (WP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paration promotional material for health sensitization campaigns to schools and health operators  (WP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9.300,00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43920" bIns="4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y the end of 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</a:tbl>
          </a:graphicData>
        </a:graphic>
      </p:graphicFrame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8115480" y="6045120"/>
            <a:ext cx="86328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79320"/>
            <a:ext cx="798984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Gill Sans MT"/>
              </a:rPr>
              <a:t>GROUP OF ACTIVITIES / TENDERS- REMAINING  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06520" y="2637000"/>
          <a:ext cx="8313480" cy="1512720"/>
        </p:xfrm>
        <a:graphic>
          <a:graphicData uri="http://schemas.openxmlformats.org/drawingml/2006/table">
            <a:tbl>
              <a:tblPr/>
              <a:tblGrid>
                <a:gridCol w="2097000"/>
                <a:gridCol w="4021200"/>
                <a:gridCol w="1326960"/>
                <a:gridCol w="868320"/>
              </a:tblGrid>
              <a:tr h="792000">
                <a:tc>
                  <a:txBody>
                    <a:bodyPr lIns="68400" rIns="68400" tIns="38520" bIns="38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xternal Expertise and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38520" bIns="38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ENDERS</a:t>
                      </a:r>
                      <a:r>
                        <a:rPr b="1" lang="el-GR" sz="15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/ Α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TIVIT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38520" bIns="38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  <a:tc>
                  <a:txBody>
                    <a:bodyPr lIns="68400" rIns="68400" tIns="38520" bIns="38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heck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4e79"/>
                    </a:solidFill>
                  </a:tcPr>
                </a:tc>
              </a:tr>
              <a:tr h="720720">
                <a:tc>
                  <a:txBody>
                    <a:bodyPr lIns="68400" rIns="6840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P4- Air Monitoring Mechanism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(equip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38520" bIns="3852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ir Monitoring Equipment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quipm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: Air Quality Monitoring Station  and measurement devises, senso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38520" bIns="38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0.000,0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  <a:tc>
                  <a:txBody>
                    <a:bodyPr lIns="68400" rIns="68400" tIns="38520" bIns="38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y the end of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0d7"/>
                    </a:solidFill>
                  </a:tcPr>
                </a:tc>
              </a:tr>
            </a:tbl>
          </a:graphicData>
        </a:graphic>
      </p:graphicFrame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8101080" y="5877000"/>
            <a:ext cx="844560" cy="792000"/>
          </a:xfrm>
          <a:prstGeom prst="rect">
            <a:avLst/>
          </a:prstGeom>
          <a:ln w="0">
            <a:noFill/>
          </a:ln>
        </p:spPr>
      </p:pic>
      <p:sp>
        <p:nvSpPr>
          <p:cNvPr id="519" name="TextBox 2"/>
          <p:cNvSpPr/>
          <p:nvPr/>
        </p:nvSpPr>
        <p:spPr>
          <a:xfrm>
            <a:off x="2843280" y="44038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Sans Unicode"/>
              </a:rPr>
              <a:t>124.800,00 €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971640" y="5246640"/>
            <a:ext cx="30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Assignment of Auditor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Verification of expenditur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7"/>
          <p:cNvSpPr/>
          <p:nvPr/>
        </p:nvSpPr>
        <p:spPr>
          <a:xfrm>
            <a:off x="2119320" y="1557360"/>
            <a:ext cx="48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63b5b"/>
                </a:solidFill>
                <a:latin typeface="Lucida Sans Unicode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Ορθογώνιο 8"/>
          <p:cNvSpPr/>
          <p:nvPr/>
        </p:nvSpPr>
        <p:spPr>
          <a:xfrm>
            <a:off x="3190320" y="3686040"/>
            <a:ext cx="265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563c1"/>
                </a:solidFill>
                <a:uFillTx/>
                <a:latin typeface="Lucida Sans Unicode"/>
                <a:hlinkClick r:id="rId1"/>
              </a:rPr>
              <a:t>https://trap-project.eu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Θέση υποσέλιδου 1"/>
          <p:cNvSpPr/>
          <p:nvPr/>
        </p:nvSpPr>
        <p:spPr>
          <a:xfrm>
            <a:off x="3780000" y="58579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Lucida Sans Unicode"/>
              </a:rPr>
              <a:t>16/10/2019/3RD STEERING COMMITTEE MEETING 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Picture 7" descr=""/>
          <p:cNvPicPr/>
          <p:nvPr/>
        </p:nvPicPr>
        <p:blipFill>
          <a:blip r:embed="rId2"/>
          <a:stretch/>
        </p:blipFill>
        <p:spPr>
          <a:xfrm>
            <a:off x="611280" y="5238720"/>
            <a:ext cx="9205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4T12:22:57Z</dcterms:created>
  <dc:creator>akoktsidou</dc:creator>
  <dc:description/>
  <dc:language>en-US</dc:language>
  <cp:lastModifiedBy>Marina Proikaki</cp:lastModifiedBy>
  <dcterms:modified xsi:type="dcterms:W3CDTF">2019-10-15T12:33:41Z</dcterms:modified>
  <cp:revision>167</cp:revision>
  <dc:subject/>
  <dc:title>Διαφάνεια 1</dc:title>
</cp:coreProperties>
</file>